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58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62.png" ContentType="image/png"/>
  <Override PartName="/ppt/media/image7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0.png" ContentType="image/png"/>
  <Override PartName="/ppt/media/image68.wmf" ContentType="image/x-wmf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3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BEFD-F6CE-4156-ABF3-A1B7DA8035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5FF8-7AB1-4449-BD82-E3019C8263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ACEA-68E1-449C-A81D-4745A0E3AD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98CB-070F-4A44-9590-605FDF165C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4F01-1115-4E7B-8375-11F79D572E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1E23-7F3A-4162-804F-F312ECD36F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2559-54C2-4070-B321-83D1DE8AE8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DABB-657B-4C27-9CE0-296ADB932C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2BDD-BEF4-4CF7-89CC-79DC098DCF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A949-CDBA-430E-A320-EFE066E7E9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ADE-7AC7-4823-B45D-ED3DC638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9ED-260A-40E8-BE9B-53A9DC3A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F9E-8B18-4C16-AB0E-FB620DC6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31A-B48B-4CB0-B305-3A8B8019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91FF-EFCF-4C80-A59F-7A4B8D09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6016-18CA-47A0-8732-3D3A865C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DC56-0E21-484F-B151-F2715ACB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1A3E-A782-4EED-846D-A24B4FDA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36F3-9270-4892-AC86-55C130F0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F03C-148F-4CA5-BED5-14863C2C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C9EC-ED21-4419-B6F6-12AA9036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AB5-065F-47CE-9DA5-69AB5856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0ADB-AB15-4CA6-873C-B16B8B27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347B-4D3C-408A-B1BF-BB802EF6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1A52-07B8-4053-A08E-32C6360C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9F35-B0DE-4B20-A42F-53508B5A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9E28-034E-4CC6-8D98-A1151546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7AF7-6075-4C7F-A013-EBDA4492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AB322-559C-4C46-AC8F-D93CCE42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DCA3-A308-4A5F-8023-A8EDA308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8E08B-8E14-4C39-BA0B-DE17AF69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8A88-C03E-4475-8459-C2D26BC7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2F0-AB1E-42E5-96CB-5EB5C44B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BA38-1200-42EE-B189-EA4C1428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8EE2-CC33-498E-995B-EFF7A291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3CE7D-D9B1-4AC8-92DD-FB05B085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25DD-F819-492A-BDD6-5C5DA5F7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FC309-2CA2-4513-BBBD-E61E083A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2D6B-54DE-4911-B8AA-46FF81A5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6C96-1D59-4E69-B6AC-3770CBE9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CE07-AC4E-4EE2-9911-6803EF74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DC99D-DADF-4F24-BFB1-EF305E21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F51A9-9A87-487F-AC00-B6683575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2B3-7E6F-42A6-8566-BC3BA177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0B449-210E-496A-9C54-9F72EE8E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197F-82B7-440E-BAEC-078B6D94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9ADED-026B-4B24-BCE9-06B7E4D5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F096-571B-47F6-9BD6-C3837129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0BEB-9893-46C8-A3F7-132897C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F0F71-A140-4977-A053-A26C8429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262EC-F8FF-442B-A9F2-4EAE5163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AC8BD-40AA-4DF1-BC0A-DB6AFA43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6BBC0-9A12-4F2B-8F09-E35E116A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E0BBB-4676-473F-8118-CC49F4DE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CD8-9BC4-4A76-8319-54F1AC1A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E5217-5433-493F-8503-D45171A7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E472E-9F42-4E63-9736-C59B8BF2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E3AF7-73CD-403F-9689-1CDDC00F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8C703-8483-4D3E-B568-94C636B6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41D91-6DC8-4853-8B14-E5709ABD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A8EAD-20CD-4E04-8BD3-D13DEACA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10162-E69A-421F-9A80-BD276FF9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3F66B-9204-4777-8C15-4981930B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DF24-318E-47F2-8D0D-0263F511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83D6B-E5BD-43E0-8BC2-ADCF306F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FAE-978D-4F6D-802E-AD596E94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6850B-BDCC-4551-B5DF-F51B6A3B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C0B-0BAA-4747-B9CC-DFF3FC1D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D9B-F8B1-4FA9-BDEE-1E61FEF9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23A-9AF2-49D9-928A-8117AB4D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6666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66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856C-99D2-4760-969D-38D9D810501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6666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66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FD8F-4888-4324-8C81-56E880658F7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6666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66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60F4-5234-4C15-B405-45BF9E6583A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6666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66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3C7C-161D-40B7-826D-8CB795EF04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6666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66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98AF-DE1F-4397-9E72-988DB177498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image" Target="../media/image65.png"/><Relationship Id="rId13" Type="http://schemas.openxmlformats.org/officeDocument/2006/relationships/image" Target="../media/image66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emisotsky2014@yandex.ru" TargetMode="External"/><Relationship Id="rId2" Type="http://schemas.openxmlformats.org/officeDocument/2006/relationships/hyperlink" Target="mailto:semisotskoe@lenino.rk.gov.r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26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429000" y="535788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Муниципального образования  Семисотское сельское поселение 2023 год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3286080"/>
          </a:xfrm>
          <a:prstGeom prst="rect">
            <a:avLst/>
          </a:prstGeom>
          <a:solidFill>
            <a:srgbClr val="ed1fd4"/>
          </a:solidFill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БЮДЖЕТ ДЛЯ ГРАЖДАН</a:t>
            </a:r>
            <a:br>
              <a:rPr sz="3000"/>
            </a:br>
            <a:r>
              <a:rPr b="1" lang="ru-RU" sz="30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 НА ПРОЕКТ БЮДЖЕТА</a:t>
            </a:r>
            <a:br>
              <a:rPr sz="3000"/>
            </a:br>
            <a:r>
              <a:rPr b="1" lang="ru-RU" sz="30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 НА 2023 ГОД И НА ПЛАНОВЫЙ</a:t>
            </a:r>
            <a:br>
              <a:rPr sz="3000"/>
            </a:br>
            <a:r>
              <a:rPr b="1" lang="ru-RU" sz="30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 ПЕРИОД 2024 И 2025 ГОДОВ</a:t>
            </a:r>
            <a:endParaRPr b="0" lang="en-US" sz="3000" spc="-1" strike="noStrike">
              <a:solidFill>
                <a:srgbClr val="6666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Нормативы зачисления налогов по уровням бюджета на территории Семисотского сельского поселения Ленинского района Республики Крым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428" name="Содержимое 4" descr=""/>
          <p:cNvPicPr/>
          <p:nvPr/>
        </p:nvPicPr>
        <p:blipFill>
          <a:blip r:embed="rId1"/>
          <a:stretch/>
        </p:blipFill>
        <p:spPr>
          <a:xfrm>
            <a:off x="103320" y="719280"/>
            <a:ext cx="8680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Межбюджетные трансферты – основной вид безвозмездных перечислений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бюджетные трансферт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денежные средства, перечисляемые из одного бюджета бюджетной системы Российской Федерации другому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57120" y="2286000"/>
          <a:ext cx="8358120" cy="440388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1071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иды межбюджетных трансфер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преде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1071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(от лат. 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tatio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– дар, пожертвовани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без определения конкретной цели их исполь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(от лат. 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venire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– приходить на помощ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 финансирование «переданных» другим публично-правовым образованиям полном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1071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(от лат. 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idium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оддержк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Расходы бюджета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бюджета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лачиваемые из бюджета денежные средства, за исключением средств, являющихся источниками дефицита бюджета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расход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 соответствии с расходными обязательствами, обусловленными установленным законодательством разграничением полномочий, исполнение которых должно происходить в очередном финансовом году за счет средств соответствующих бюджетов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формирования расходов бюджета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e4005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азделам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e4005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домствам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e4005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униципальным программам Семисот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Скругленный прямоугольник 3"/>
          <p:cNvSpPr/>
          <p:nvPr/>
        </p:nvSpPr>
        <p:spPr>
          <a:xfrm>
            <a:off x="142920" y="3857760"/>
            <a:ext cx="8858160" cy="357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ы классификации расходов 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4"/>
          <p:cNvSpPr/>
          <p:nvPr/>
        </p:nvSpPr>
        <p:spPr>
          <a:xfrm>
            <a:off x="142920" y="4429080"/>
            <a:ext cx="1000080" cy="928800"/>
          </a:xfrm>
          <a:prstGeom prst="roundRect">
            <a:avLst>
              <a:gd name="adj" fmla="val 16667"/>
            </a:avLst>
          </a:prstGeom>
          <a:solidFill>
            <a:srgbClr val="ff88ba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01 «Общегосударственные вопросы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5"/>
          <p:cNvSpPr/>
          <p:nvPr/>
        </p:nvSpPr>
        <p:spPr>
          <a:xfrm>
            <a:off x="8072280" y="4429080"/>
            <a:ext cx="928800" cy="9288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07 «Образование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6"/>
          <p:cNvSpPr/>
          <p:nvPr/>
        </p:nvSpPr>
        <p:spPr>
          <a:xfrm>
            <a:off x="1285920" y="4429080"/>
            <a:ext cx="1000080" cy="9288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02 «Национальная оборон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7"/>
          <p:cNvSpPr/>
          <p:nvPr/>
        </p:nvSpPr>
        <p:spPr>
          <a:xfrm>
            <a:off x="142920" y="5429160"/>
            <a:ext cx="1285920" cy="785880"/>
          </a:xfrm>
          <a:prstGeom prst="roundRect">
            <a:avLst>
              <a:gd name="adj" fmla="val 16667"/>
            </a:avLst>
          </a:prstGeom>
          <a:solidFill>
            <a:srgbClr val="ab0043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08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«Культура , кинематограф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кругленный прямоугольник 8"/>
          <p:cNvSpPr/>
          <p:nvPr/>
        </p:nvSpPr>
        <p:spPr>
          <a:xfrm>
            <a:off x="2428920" y="4429080"/>
            <a:ext cx="1214280" cy="9288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03 «Национальная безопасность и правоохранительная де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кругленный прямоугольник 9"/>
          <p:cNvSpPr/>
          <p:nvPr/>
        </p:nvSpPr>
        <p:spPr>
          <a:xfrm>
            <a:off x="1500120" y="5429160"/>
            <a:ext cx="1071720" cy="7858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09 «Здравоохранение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кругленный прямоугольник 10"/>
          <p:cNvSpPr/>
          <p:nvPr/>
        </p:nvSpPr>
        <p:spPr>
          <a:xfrm>
            <a:off x="4214880" y="4429080"/>
            <a:ext cx="1000080" cy="9288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04 «Национальная экономи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11"/>
          <p:cNvSpPr/>
          <p:nvPr/>
        </p:nvSpPr>
        <p:spPr>
          <a:xfrm>
            <a:off x="6786720" y="4429080"/>
            <a:ext cx="1071360" cy="928800"/>
          </a:xfrm>
          <a:prstGeom prst="roundRect">
            <a:avLst>
              <a:gd name="adj" fmla="val 16667"/>
            </a:avLst>
          </a:prstGeom>
          <a:solidFill>
            <a:srgbClr val="002776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«Охрана окружающей среды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12"/>
          <p:cNvSpPr/>
          <p:nvPr/>
        </p:nvSpPr>
        <p:spPr>
          <a:xfrm>
            <a:off x="2643120" y="5429160"/>
            <a:ext cx="1214640" cy="785880"/>
          </a:xfrm>
          <a:prstGeom prst="roundRect">
            <a:avLst>
              <a:gd name="adj" fmla="val 16667"/>
            </a:avLst>
          </a:prstGeom>
          <a:solidFill>
            <a:srgbClr val="ff8eba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«Социальная полити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13"/>
          <p:cNvSpPr/>
          <p:nvPr/>
        </p:nvSpPr>
        <p:spPr>
          <a:xfrm>
            <a:off x="5500800" y="4429080"/>
            <a:ext cx="1071360" cy="928800"/>
          </a:xfrm>
          <a:prstGeom prst="roundRect">
            <a:avLst>
              <a:gd name="adj" fmla="val 16667"/>
            </a:avLst>
          </a:prstGeom>
          <a:solidFill>
            <a:srgbClr val="2c71ff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05 «Жилищно-коммунальное хозяйство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14"/>
          <p:cNvSpPr/>
          <p:nvPr/>
        </p:nvSpPr>
        <p:spPr>
          <a:xfrm>
            <a:off x="3929040" y="5429160"/>
            <a:ext cx="114300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11 «Физическая культур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15"/>
          <p:cNvSpPr/>
          <p:nvPr/>
        </p:nvSpPr>
        <p:spPr>
          <a:xfrm>
            <a:off x="5143680" y="5429160"/>
            <a:ext cx="1143000" cy="7858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«Средства массовой информации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кругленный прямоугольник 16"/>
          <p:cNvSpPr/>
          <p:nvPr/>
        </p:nvSpPr>
        <p:spPr>
          <a:xfrm>
            <a:off x="6357960" y="5429160"/>
            <a:ext cx="1357200" cy="1214640"/>
          </a:xfrm>
          <a:prstGeom prst="roundRect">
            <a:avLst>
              <a:gd name="adj" fmla="val 16667"/>
            </a:avLst>
          </a:prstGeom>
          <a:solidFill>
            <a:srgbClr val="ed1fd4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13 «Обслуживание государственного и муниципального дол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Скругленный прямоугольник 17"/>
          <p:cNvSpPr/>
          <p:nvPr/>
        </p:nvSpPr>
        <p:spPr>
          <a:xfrm>
            <a:off x="7786800" y="5429160"/>
            <a:ext cx="1214280" cy="1214640"/>
          </a:xfrm>
          <a:custGeom>
            <a:avLst/>
            <a:gdLst>
              <a:gd name="textAreaLeft" fmla="*/ 59040 w 1214280"/>
              <a:gd name="textAreaRight" fmla="*/ 1155240 w 1214280"/>
              <a:gd name="textAreaTop" fmla="*/ 59040 h 1214640"/>
              <a:gd name="textAreaBottom" fmla="*/ 1155600 h 121464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14 «межбюджетные трансферты общего характер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9"/>
          <p:cNvSpPr/>
          <p:nvPr/>
        </p:nvSpPr>
        <p:spPr>
          <a:xfrm flipH="1">
            <a:off x="8214840" y="4214880"/>
            <a:ext cx="1800" cy="21420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21"/>
          <p:cNvSpPr/>
          <p:nvPr/>
        </p:nvSpPr>
        <p:spPr>
          <a:xfrm flipH="1">
            <a:off x="7286760" y="4214880"/>
            <a:ext cx="1440" cy="21420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24"/>
          <p:cNvSpPr/>
          <p:nvPr/>
        </p:nvSpPr>
        <p:spPr>
          <a:xfrm flipH="1">
            <a:off x="5857920" y="4214880"/>
            <a:ext cx="1440" cy="21420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26"/>
          <p:cNvSpPr/>
          <p:nvPr/>
        </p:nvSpPr>
        <p:spPr>
          <a:xfrm flipH="1">
            <a:off x="641520" y="4216320"/>
            <a:ext cx="1440" cy="21456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28"/>
          <p:cNvSpPr/>
          <p:nvPr/>
        </p:nvSpPr>
        <p:spPr>
          <a:xfrm flipH="1">
            <a:off x="1785960" y="4214880"/>
            <a:ext cx="1440" cy="21420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30"/>
          <p:cNvSpPr/>
          <p:nvPr/>
        </p:nvSpPr>
        <p:spPr>
          <a:xfrm flipH="1">
            <a:off x="2999880" y="4214880"/>
            <a:ext cx="1800" cy="21420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32"/>
          <p:cNvSpPr/>
          <p:nvPr/>
        </p:nvSpPr>
        <p:spPr>
          <a:xfrm flipH="1">
            <a:off x="4714920" y="4216320"/>
            <a:ext cx="1440" cy="21456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36"/>
          <p:cNvSpPr/>
          <p:nvPr/>
        </p:nvSpPr>
        <p:spPr>
          <a:xfrm flipH="1">
            <a:off x="1213920" y="4214880"/>
            <a:ext cx="1800" cy="121428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39"/>
          <p:cNvSpPr/>
          <p:nvPr/>
        </p:nvSpPr>
        <p:spPr>
          <a:xfrm flipH="1">
            <a:off x="2356920" y="4214880"/>
            <a:ext cx="1800" cy="121428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41"/>
          <p:cNvSpPr/>
          <p:nvPr/>
        </p:nvSpPr>
        <p:spPr>
          <a:xfrm flipH="1">
            <a:off x="3714840" y="4214880"/>
            <a:ext cx="1440" cy="121428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ая соединительная линия 43"/>
          <p:cNvSpPr/>
          <p:nvPr/>
        </p:nvSpPr>
        <p:spPr>
          <a:xfrm flipH="1">
            <a:off x="4141800" y="4216320"/>
            <a:ext cx="1440" cy="121464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45"/>
          <p:cNvSpPr/>
          <p:nvPr/>
        </p:nvSpPr>
        <p:spPr>
          <a:xfrm flipH="1">
            <a:off x="5285880" y="4214880"/>
            <a:ext cx="1800" cy="121428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49"/>
          <p:cNvSpPr/>
          <p:nvPr/>
        </p:nvSpPr>
        <p:spPr>
          <a:xfrm flipH="1">
            <a:off x="7929720" y="4216320"/>
            <a:ext cx="1440" cy="121284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51"/>
          <p:cNvSpPr/>
          <p:nvPr/>
        </p:nvSpPr>
        <p:spPr>
          <a:xfrm flipH="1">
            <a:off x="6643800" y="4216320"/>
            <a:ext cx="1440" cy="121284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Из какого бюджета происходит финансирование?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285840" y="988920"/>
          <a:ext cx="8643960" cy="5121360"/>
        </p:xfrm>
        <a:graphic>
          <a:graphicData uri="http://schemas.openxmlformats.org/drawingml/2006/table">
            <a:tbl>
              <a:tblPr/>
              <a:tblGrid>
                <a:gridCol w="3579840"/>
                <a:gridCol w="1755720"/>
                <a:gridCol w="1890720"/>
                <a:gridCol w="1417680"/>
              </a:tblGrid>
              <a:tr h="3049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Расходное полном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Финансирование  (бюдж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едер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блас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ес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циональная экономик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ельское хозяйство и рыболов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вязь и 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Дефицит и профицит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85816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Дефицит и профицит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469" name="Содержимое 2" descr=""/>
          <p:cNvPicPr/>
          <p:nvPr/>
        </p:nvPicPr>
        <p:blipFill>
          <a:blip r:embed="rId1"/>
          <a:stretch/>
        </p:blipFill>
        <p:spPr>
          <a:xfrm>
            <a:off x="420840" y="1444680"/>
            <a:ext cx="8515080" cy="4584600"/>
          </a:xfrm>
          <a:prstGeom prst="rect">
            <a:avLst/>
          </a:prstGeom>
          <a:ln w="0">
            <a:noFill/>
          </a:ln>
        </p:spPr>
      </p:pic>
      <p:grpSp>
        <p:nvGrpSpPr>
          <p:cNvPr id="470" name="Скругленный прямоугольник 4"/>
          <p:cNvGrpSpPr/>
          <p:nvPr/>
        </p:nvGrpSpPr>
        <p:grpSpPr>
          <a:xfrm>
            <a:off x="695160" y="1695600"/>
            <a:ext cx="3748320" cy="2889000"/>
            <a:chOff x="695160" y="1695600"/>
            <a:chExt cx="3748320" cy="2889000"/>
          </a:xfrm>
        </p:grpSpPr>
        <p:pic>
          <p:nvPicPr>
            <p:cNvPr id="471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695160" y="1695600"/>
              <a:ext cx="3748320" cy="28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853920" y="1854360"/>
              <a:ext cx="3435480" cy="25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Скругленный прямоугольник 5"/>
          <p:cNvGrpSpPr/>
          <p:nvPr/>
        </p:nvGrpSpPr>
        <p:grpSpPr>
          <a:xfrm>
            <a:off x="4979880" y="1695600"/>
            <a:ext cx="3676680" cy="2889000"/>
            <a:chOff x="4979880" y="1695600"/>
            <a:chExt cx="3676680" cy="2889000"/>
          </a:xfrm>
        </p:grpSpPr>
        <p:pic>
          <p:nvPicPr>
            <p:cNvPr id="474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979880" y="1695600"/>
              <a:ext cx="3676680" cy="28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5140440" y="1854360"/>
              <a:ext cx="3363840" cy="25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Скругленный прямоугольник 6"/>
          <p:cNvGrpSpPr/>
          <p:nvPr/>
        </p:nvGrpSpPr>
        <p:grpSpPr>
          <a:xfrm>
            <a:off x="749160" y="1536840"/>
            <a:ext cx="3640320" cy="493560"/>
            <a:chOff x="749160" y="1536840"/>
            <a:chExt cx="3640320" cy="493560"/>
          </a:xfrm>
        </p:grpSpPr>
        <p:pic>
          <p:nvPicPr>
            <p:cNvPr id="477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749160" y="1536840"/>
              <a:ext cx="36403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806400" y="1592280"/>
              <a:ext cx="3530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mbria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Скругленный прямоугольник 7"/>
          <p:cNvGrpSpPr/>
          <p:nvPr/>
        </p:nvGrpSpPr>
        <p:grpSpPr>
          <a:xfrm>
            <a:off x="5048280" y="1474920"/>
            <a:ext cx="3541680" cy="469800"/>
            <a:chOff x="5048280" y="1474920"/>
            <a:chExt cx="3541680" cy="469800"/>
          </a:xfrm>
        </p:grpSpPr>
        <p:pic>
          <p:nvPicPr>
            <p:cNvPr id="480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5048280" y="1474920"/>
              <a:ext cx="3541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5092560" y="1521000"/>
              <a:ext cx="34592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mbria"/>
                </a:rPr>
                <a:t>про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Скругленный прямоугольник 8"/>
          <p:cNvGrpSpPr/>
          <p:nvPr/>
        </p:nvGrpSpPr>
        <p:grpSpPr>
          <a:xfrm>
            <a:off x="981000" y="2193840"/>
            <a:ext cx="3176640" cy="604800"/>
            <a:chOff x="981000" y="2193840"/>
            <a:chExt cx="3176640" cy="604800"/>
          </a:xfrm>
        </p:grpSpPr>
        <p:pic>
          <p:nvPicPr>
            <p:cNvPr id="483" name="Скругленный 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981000" y="2193840"/>
              <a:ext cx="31766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028880" y="2243160"/>
              <a:ext cx="3085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Накопленные резерв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Скругленный прямоугольник 9"/>
          <p:cNvGrpSpPr/>
          <p:nvPr/>
        </p:nvGrpSpPr>
        <p:grpSpPr>
          <a:xfrm>
            <a:off x="981000" y="2981160"/>
            <a:ext cx="3176640" cy="743040"/>
            <a:chOff x="981000" y="2981160"/>
            <a:chExt cx="3176640" cy="743040"/>
          </a:xfrm>
        </p:grpSpPr>
        <p:pic>
          <p:nvPicPr>
            <p:cNvPr id="486" name="Скругленный прямоугольник 9" descr=""/>
            <p:cNvPicPr/>
            <p:nvPr/>
          </p:nvPicPr>
          <p:blipFill>
            <a:blip r:embed="rId7"/>
            <a:stretch/>
          </p:blipFill>
          <p:spPr>
            <a:xfrm>
              <a:off x="981000" y="2981160"/>
              <a:ext cx="31766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1035000" y="3035160"/>
              <a:ext cx="307332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Государственный дол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Скругленный прямоугольник 10"/>
          <p:cNvGrpSpPr/>
          <p:nvPr/>
        </p:nvGrpSpPr>
        <p:grpSpPr>
          <a:xfrm>
            <a:off x="5340240" y="2127240"/>
            <a:ext cx="2955960" cy="596880"/>
            <a:chOff x="5340240" y="2127240"/>
            <a:chExt cx="2955960" cy="596880"/>
          </a:xfrm>
        </p:grpSpPr>
        <p:pic>
          <p:nvPicPr>
            <p:cNvPr id="489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5340240" y="2127240"/>
              <a:ext cx="29559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386320" y="2171880"/>
              <a:ext cx="28717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Накопленные резерв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Скругленный прямоугольник 11"/>
          <p:cNvGrpSpPr/>
          <p:nvPr/>
        </p:nvGrpSpPr>
        <p:grpSpPr>
          <a:xfrm>
            <a:off x="5340240" y="3054240"/>
            <a:ext cx="2955960" cy="669960"/>
            <a:chOff x="5340240" y="3054240"/>
            <a:chExt cx="2955960" cy="669960"/>
          </a:xfrm>
        </p:grpSpPr>
        <p:pic>
          <p:nvPicPr>
            <p:cNvPr id="492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5340240" y="3054240"/>
              <a:ext cx="29559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5389560" y="3103560"/>
              <a:ext cx="286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Государственный дол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Стрелка вниз 12"/>
          <p:cNvGrpSpPr/>
          <p:nvPr/>
        </p:nvGrpSpPr>
        <p:grpSpPr>
          <a:xfrm>
            <a:off x="3535200" y="2335320"/>
            <a:ext cx="347760" cy="328680"/>
            <a:chOff x="3535200" y="2335320"/>
            <a:chExt cx="347760" cy="328680"/>
          </a:xfrm>
        </p:grpSpPr>
        <p:pic>
          <p:nvPicPr>
            <p:cNvPr id="495" name="Стрелка вниз 12" descr=""/>
            <p:cNvPicPr/>
            <p:nvPr/>
          </p:nvPicPr>
          <p:blipFill>
            <a:blip r:embed="rId10"/>
            <a:stretch/>
          </p:blipFill>
          <p:spPr>
            <a:xfrm>
              <a:off x="3535200" y="2335320"/>
              <a:ext cx="34776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3643200" y="2357280"/>
              <a:ext cx="1429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Стрелка вверх 13"/>
          <p:cNvGrpSpPr/>
          <p:nvPr/>
        </p:nvGrpSpPr>
        <p:grpSpPr>
          <a:xfrm>
            <a:off x="3535200" y="3114720"/>
            <a:ext cx="347760" cy="403200"/>
            <a:chOff x="3535200" y="3114720"/>
            <a:chExt cx="347760" cy="403200"/>
          </a:xfrm>
        </p:grpSpPr>
        <p:pic>
          <p:nvPicPr>
            <p:cNvPr id="498" name="Стрелка вверх 13" descr=""/>
            <p:cNvPicPr/>
            <p:nvPr/>
          </p:nvPicPr>
          <p:blipFill>
            <a:blip r:embed="rId11"/>
            <a:stretch/>
          </p:blipFill>
          <p:spPr>
            <a:xfrm>
              <a:off x="3535200" y="3114720"/>
              <a:ext cx="347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3643200" y="3214800"/>
              <a:ext cx="1429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Стрелка вверх 14"/>
          <p:cNvGrpSpPr/>
          <p:nvPr/>
        </p:nvGrpSpPr>
        <p:grpSpPr>
          <a:xfrm>
            <a:off x="7753320" y="2262240"/>
            <a:ext cx="274680" cy="328680"/>
            <a:chOff x="7753320" y="2262240"/>
            <a:chExt cx="274680" cy="328680"/>
          </a:xfrm>
        </p:grpSpPr>
        <p:pic>
          <p:nvPicPr>
            <p:cNvPr id="501" name="Стрелка вверх 14" descr=""/>
            <p:cNvPicPr/>
            <p:nvPr/>
          </p:nvPicPr>
          <p:blipFill>
            <a:blip r:embed="rId12"/>
            <a:stretch/>
          </p:blipFill>
          <p:spPr>
            <a:xfrm>
              <a:off x="7753320" y="2262240"/>
              <a:ext cx="27468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7840800" y="2340000"/>
              <a:ext cx="1062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Стрелка вниз 15"/>
          <p:cNvGrpSpPr/>
          <p:nvPr/>
        </p:nvGrpSpPr>
        <p:grpSpPr>
          <a:xfrm>
            <a:off x="7753320" y="3187800"/>
            <a:ext cx="274680" cy="336600"/>
            <a:chOff x="7753320" y="3187800"/>
            <a:chExt cx="274680" cy="336600"/>
          </a:xfrm>
        </p:grpSpPr>
        <p:pic>
          <p:nvPicPr>
            <p:cNvPr id="504" name="Стрелка вниз 15" descr=""/>
            <p:cNvPicPr/>
            <p:nvPr/>
          </p:nvPicPr>
          <p:blipFill>
            <a:blip r:embed="rId13"/>
            <a:stretch/>
          </p:blipFill>
          <p:spPr>
            <a:xfrm>
              <a:off x="7753320" y="3187800"/>
              <a:ext cx="274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840800" y="3214800"/>
              <a:ext cx="1062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2bd8"/>
                </a:solidFill>
                <a:latin typeface="Calibri"/>
              </a:rPr>
              <a:t>Основные задачи и приоритетные направления бюджетной политики Семисотского  сельского поселения Ленинского района Республики Крым на 2023 год и на плановый период 2024 и 2025 годов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14400" y="142848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устойчивости бюджетной системы Семисотского сельского поселения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доходной базы консолидированного бюджета Семисотского сельского поселения за счет наращивания стабильных доходных источников и мобилизации в бюджет имеющихся резервов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словное исполнение всех обязательств государства и реализация приоритетных направлений и национальных проектов, в первую очередь направленных на решение задач, поставленных в Указе Президента Российской Федерации от 07.05.2018 № 204 «О национальных целях и стратегических задачах развития Российской Федерации на период до 2025 года»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озрачного механизма оценки эффективности предоставленных налоговых льгот, установленных соответствующими нормативно-правовыми актами  Семисотского сельского поселения о налогах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е вовлечение населения в решение приоритетных социальных проблем местного уровня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крытости и прозрачности управления общественными финансами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управление муниципальными финансами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ачества планирования и эффективности реализации муниципальных программ Семисотского сельского поселения, исходя из ожидаемых результатов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142920" y="1628640"/>
          <a:ext cx="8643960" cy="3824280"/>
        </p:xfrm>
        <a:graphic>
          <a:graphicData uri="http://schemas.openxmlformats.org/drawingml/2006/table">
            <a:tbl>
              <a:tblPr/>
              <a:tblGrid>
                <a:gridCol w="2454120"/>
                <a:gridCol w="1327320"/>
                <a:gridCol w="1368360"/>
                <a:gridCol w="1208160"/>
                <a:gridCol w="1214280"/>
                <a:gridCol w="10717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 Доходы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7988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4036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2049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7218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6418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63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6380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52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3437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225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608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7655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525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781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168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53535"/>
                          </a:solidFill>
                          <a:latin typeface="Cambria"/>
                        </a:rPr>
                        <a:t>2. Расходы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5431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7988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2049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7218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6418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. Дефицит (-), профицит (+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-267443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395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519ff"/>
                </a:solidFill>
                <a:latin typeface="Calibri"/>
              </a:rPr>
              <a:t>Основные характеристики проекта бюджета Семисотское сельское поселение</a:t>
            </a:r>
            <a:br>
              <a:rPr sz="1600"/>
            </a:br>
            <a:r>
              <a:rPr b="0" lang="ru-RU" sz="1600" spc="-1" strike="noStrike">
                <a:solidFill>
                  <a:srgbClr val="d519ff"/>
                </a:solidFill>
                <a:latin typeface="Calibri"/>
              </a:rPr>
              <a:t>Проект Решения муниципального образования Семисотское сельское поселение «О бюджете на 2023 и на плановый период 2024 и 2025 годов»</a:t>
            </a:r>
            <a:endParaRPr b="0" lang="en-US" sz="1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510" name="Picture 2" descr="http://www.muravlenko.com/uploads/posts/2011-12/1324612715_2011-10-2020-bjudzhet.jpg"/>
          <p:cNvPicPr/>
          <p:nvPr/>
        </p:nvPicPr>
        <p:blipFill>
          <a:blip r:embed="rId1"/>
          <a:stretch/>
        </p:blipFill>
        <p:spPr>
          <a:xfrm>
            <a:off x="390600" y="1047600"/>
            <a:ext cx="1724040" cy="1725840"/>
          </a:xfrm>
          <a:prstGeom prst="rect">
            <a:avLst/>
          </a:prstGeom>
          <a:ln w="0">
            <a:noFill/>
          </a:ln>
        </p:spPr>
      </p:pic>
      <p:sp>
        <p:nvSpPr>
          <p:cNvPr id="511" name="TextBox 5"/>
          <p:cNvSpPr/>
          <p:nvPr/>
        </p:nvSpPr>
        <p:spPr>
          <a:xfrm>
            <a:off x="7286760" y="1214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Доходы бюджета муниципального образования (руб)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graphicFrame>
        <p:nvGraphicFramePr>
          <p:cNvPr id="513" name="Содержимое 6"/>
          <p:cNvGraphicFramePr/>
          <p:nvPr/>
        </p:nvGraphicFramePr>
        <p:xfrm>
          <a:off x="880920" y="695160"/>
          <a:ext cx="7599600" cy="657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4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695160"/>
                    <a:ext cx="7599600" cy="657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Доходы бюджета муниципального образования (руб)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516" name="Содержимое 6" descr=""/>
          <p:cNvPicPr/>
          <p:nvPr/>
        </p:nvPicPr>
        <p:blipFill>
          <a:blip r:embed="rId1"/>
          <a:stretch/>
        </p:blipFill>
        <p:spPr>
          <a:xfrm>
            <a:off x="247680" y="1152360"/>
            <a:ext cx="882972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66"/>
                </a:solidFill>
                <a:latin typeface="Calibri"/>
              </a:rPr>
              <a:t>Публичные слушания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14240" y="856800"/>
            <a:ext cx="7972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убличные слушания по проекту бюджета Семисотского сельского поселения Ленинского района Республики Крым на 2023 год и на плановый период 2024 и 2025 годов состоятся  23 ноября 2022 года в 14-00 часов в здании Администрации Семисотского сельского поселения по адресу: с.Семисотка  пер.Школьный,д.3  Ленинского района Республики Кры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убличные слушания проводятся в форме очного собрани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едложения и замечания по обсуждаемому вопросу принимаются по адресу: с.Семисотка  пер.Школьный,д.3  Ленинского района Республики Кры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ственный за проведение публичных слушаний по проекту бюджета Семисотского  сельского поселения на 2023 год и на плановый период 2024 и 2025 годов  Глава администрации Семисотского сельского поселения Загнитко Игорь Васильевич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Структура налоговых и неналоговых доходов бюджета муниципального образования Семисотское сельское поселение 2023 году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518" name="Содержимое 4" descr=""/>
          <p:cNvPicPr/>
          <p:nvPr/>
        </p:nvPicPr>
        <p:blipFill>
          <a:blip r:embed="rId1"/>
          <a:stretch/>
        </p:blipFill>
        <p:spPr>
          <a:xfrm>
            <a:off x="638280" y="2162160"/>
            <a:ext cx="78105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Динамика расходов бюджета муниципального образования Семисотское сельское поселение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520" name="Содержимое 3" descr=""/>
          <p:cNvPicPr/>
          <p:nvPr/>
        </p:nvPicPr>
        <p:blipFill>
          <a:blip r:embed="rId1"/>
          <a:stretch/>
        </p:blipFill>
        <p:spPr>
          <a:xfrm>
            <a:off x="1019160" y="1733400"/>
            <a:ext cx="76294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Семисотское сельское поселение на 2023 год</a:t>
            </a:r>
            <a:endParaRPr b="0" lang="en-US" sz="2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522" name="Содержимое 3" descr=""/>
          <p:cNvPicPr/>
          <p:nvPr/>
        </p:nvPicPr>
        <p:blipFill>
          <a:blip r:embed="rId1"/>
          <a:stretch/>
        </p:blipFill>
        <p:spPr>
          <a:xfrm>
            <a:off x="66600" y="858960"/>
            <a:ext cx="97822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6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Calibri"/>
              </a:rPr>
              <a:t>Динамика муниципальных программ по годам (тыс.рублей)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524" name="Содержимое 3" descr=""/>
          <p:cNvPicPr/>
          <p:nvPr/>
        </p:nvPicPr>
        <p:blipFill>
          <a:blip r:embed="rId1"/>
          <a:stretch/>
        </p:blipFill>
        <p:spPr>
          <a:xfrm>
            <a:off x="466560" y="1247760"/>
            <a:ext cx="81248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758000" cy="439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ниципальные  программы муниципального образования Семисотское сельское поселения на 2022 и на плановый период 2023 и2024 годов</a:t>
            </a:r>
            <a:endParaRPr b="0" lang="en-US" sz="1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именование  муниципальных программ Семисотского сельского поселения Ленинского района Республики Кры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униципальная программа «Обеспечение деятельности органов местного самоуправления Администрации Семисотского сельского поселения "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униципальная программа «Благоустройство сел Семисотского сельского поселения Ленинского района Республики Крым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униципальная программа «Обеспечение жителей Семисотского сельского поселения питьевой (социальной ) водой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Дотации и субвенции, предоставляемые местным бюджетам из бюджета муниципального образования Семисотское сельское поселение на     2023 год</a:t>
            </a:r>
            <a:endParaRPr b="0" lang="en-US" sz="1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528" name="Объект 3" descr=""/>
          <p:cNvPicPr/>
          <p:nvPr/>
        </p:nvPicPr>
        <p:blipFill>
          <a:blip r:embed="rId1"/>
          <a:stretch/>
        </p:blipFill>
        <p:spPr>
          <a:xfrm>
            <a:off x="857160" y="1390680"/>
            <a:ext cx="81345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368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66"/>
                </a:solidFill>
                <a:latin typeface="Calibri"/>
              </a:rPr>
              <a:t>Муниципальный долг</a:t>
            </a:r>
            <a:r>
              <a:rPr b="0" lang="en-US" sz="1400" spc="-1" strike="noStrike">
                <a:solidFill>
                  <a:srgbClr val="666666"/>
                </a:solidFill>
                <a:latin typeface="Franklin Gothic Book"/>
              </a:rPr>
              <a:t> </a:t>
            </a:r>
            <a:r>
              <a:rPr b="0" lang="ru-RU" sz="1400" spc="-1" strike="noStrike">
                <a:solidFill>
                  <a:srgbClr val="666666"/>
                </a:solidFill>
                <a:latin typeface="Calibri"/>
              </a:rPr>
              <a:t>муниципального образования Семисотское сельское поселение</a:t>
            </a:r>
            <a:endParaRPr b="0" lang="en-US" sz="1400" spc="-1" strike="noStrike">
              <a:solidFill>
                <a:srgbClr val="666666"/>
              </a:solidFill>
              <a:latin typeface="Calibri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95280" y="642960"/>
          <a:ext cx="8424720" cy="5286240"/>
        </p:xfrm>
        <a:graphic>
          <a:graphicData uri="http://schemas.openxmlformats.org/drawingml/2006/table">
            <a:tbl>
              <a:tblPr/>
              <a:tblGrid>
                <a:gridCol w="2913120"/>
                <a:gridCol w="2789280"/>
                <a:gridCol w="2722320"/>
              </a:tblGrid>
              <a:tr h="719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01.01.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01.01.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720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 внутренний долг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</a:tr>
              <a:tr h="703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кредиты, предоставленные из областного бюдж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</a:tr>
              <a:tr h="432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ы бан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е гарант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</a:tr>
              <a:tr h="2280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долговой нагрузки (отношение объема муниципального долга района к доходам  бюджета муниципального района без учета безвозмездных поступлений и (или)поступлений налоговых доходов по дополнительным нормативам отчислений),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юджет для граждан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14400" y="1000080"/>
            <a:ext cx="7772400" cy="501984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Бюджет для граждан разработан на основе требований Методических рекомендаций, утвержденных приказом Министерства финансов Российской Федерации от 22 сентября 2015 г. №145н «Об утверждении Методических рекомендаций по представлению бюджетов субъектов Российской Федерации и местных бюджетов и отчетов об их исполнении в доступной для подготовки и публикации бюджета муниципального района и годового отчета о его исполнении в доступной для граждан форме граждан форме», и приказом комитета финансов от 31.12.2015 года №53 «Об утверждении Порядка подготовки и публикации бюджета муниципального района и годового отчета о его исполнении в доступной для граждан форме»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06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Администрация Семисотского сельского поселения Ленинского района Республики Крым</a:t>
            </a:r>
            <a:endParaRPr b="0" lang="en-US" sz="2000" spc="-1" strike="noStrike">
              <a:solidFill>
                <a:srgbClr val="666666"/>
              </a:solidFill>
              <a:latin typeface="Calibri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914400" y="1447920"/>
          <a:ext cx="7772400" cy="3636720"/>
        </p:xfrm>
        <a:graphic>
          <a:graphicData uri="http://schemas.openxmlformats.org/drawingml/2006/table">
            <a:tbl>
              <a:tblPr/>
              <a:tblGrid>
                <a:gridCol w="1728720"/>
                <a:gridCol w="6043680"/>
              </a:tblGrid>
              <a:tr h="49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Адр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98214,Россия, Республика Крым, Ленинский р-н, с. Семисотка, пер.Школьный, д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84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ежим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н - пт с 8:00 до 16:12, выходной сб и в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120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л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ч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17bbfd"/>
                          </a:solidFill>
                          <a:uFillTx/>
                          <a:latin typeface="Perpetua"/>
                          <a:hlinkClick r:id="rId1"/>
                        </a:rPr>
                        <a:t>semisotsky2014@yandex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17bbfd"/>
                          </a:solidFill>
                          <a:uFillTx/>
                          <a:latin typeface="Perpetua"/>
                          <a:hlinkClick r:id="rId2"/>
                        </a:rPr>
                        <a:t>semisotskoe@lenino.rk.gov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Что такое «Бюджет для граждан»?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85840" y="1447920"/>
            <a:ext cx="85723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юджет для граждан» познакомит Вас с положениями проекта основного финансового документа Семисотского сельского поселения– решения муниципального образования Семисотское сельское поселение о бюджете муниципального образования на 2023 год и плановый период 2024 и 2025 годов.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пенсионерам и другим категориям населения, так как бюджет муниципального района затрагивает интересы каждого жителя Семисотского сельского поселения.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 – и как  налогоплательщики, и как потребители общественных благ – должны быть уверены в том, что передаваемые ими в распоряжение государства средства используются прозрачно и эффективно, просят конкретные результаты как для общества в целом, так и для каждой семьи, для каждого человека.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старались в доступной и понятной для граждан форме показать основные параметры бюджета муниципального района.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Решение Думы              Здравоохранение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                                                                                            </a:t>
            </a:r>
            <a:r>
              <a:rPr b="0" lang="ru-RU" sz="1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Граждане               </a:t>
            </a:r>
            <a:r>
              <a:rPr b="1" lang="ru-RU" sz="1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Образование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     </a:t>
            </a:r>
            <a:r>
              <a:rPr b="1" lang="ru-RU" sz="1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Глава район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lang="ru-RU" sz="1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Финансы            </a:t>
            </a:r>
            <a:r>
              <a:rPr b="0" lang="ru-RU" sz="1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Культура  </a:t>
            </a:r>
            <a:r>
              <a:rPr b="1" lang="ru-RU" sz="1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              Экономик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Предприятия             </a:t>
            </a:r>
            <a:r>
              <a:rPr b="0" lang="ru-RU" sz="1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Социальная политик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1" name="Рисунок 9" descr="бюджет.jpg"/>
          <p:cNvPicPr/>
          <p:nvPr/>
        </p:nvPicPr>
        <p:blipFill>
          <a:blip r:embed="rId1"/>
          <a:stretch/>
        </p:blipFill>
        <p:spPr>
          <a:xfrm>
            <a:off x="428760" y="4857840"/>
            <a:ext cx="1822320" cy="1369800"/>
          </a:xfrm>
          <a:prstGeom prst="rect">
            <a:avLst/>
          </a:prstGeom>
          <a:ln w="0">
            <a:noFill/>
          </a:ln>
        </p:spPr>
      </p:pic>
      <p:sp>
        <p:nvSpPr>
          <p:cNvPr id="242" name="Стрелка вправо 10"/>
          <p:cNvSpPr/>
          <p:nvPr/>
        </p:nvSpPr>
        <p:spPr>
          <a:xfrm>
            <a:off x="2857680" y="5429160"/>
            <a:ext cx="928440" cy="14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388c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714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Что такое бюджет? Какие бывают бюджеты?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760" y="107136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аронормандског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gette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умка, кошелек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лан доходов и расходов на определенный период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45" name="Скругленный прямоугольник 3"/>
          <p:cNvGrpSpPr/>
          <p:nvPr/>
        </p:nvGrpSpPr>
        <p:grpSpPr>
          <a:xfrm>
            <a:off x="1616040" y="1835280"/>
            <a:ext cx="6186600" cy="1182600"/>
            <a:chOff x="1616040" y="1835280"/>
            <a:chExt cx="6186600" cy="1182600"/>
          </a:xfrm>
        </p:grpSpPr>
        <p:pic>
          <p:nvPicPr>
            <p:cNvPr id="246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616040" y="1835280"/>
              <a:ext cx="61866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698480" y="1913040"/>
              <a:ext cx="603252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онсолидированный бюджет Семисотского сельского поселения Ленинского района Республики Кр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Равнобедренный треугольник 4"/>
          <p:cNvSpPr/>
          <p:nvPr/>
        </p:nvSpPr>
        <p:spPr>
          <a:xfrm rot="12037200">
            <a:off x="1599480" y="3133440"/>
            <a:ext cx="474840" cy="655560"/>
          </a:xfrm>
          <a:prstGeom prst="triangle">
            <a:avLst>
              <a:gd name="adj" fmla="val 50000"/>
            </a:avLst>
          </a:prstGeom>
          <a:solidFill>
            <a:srgbClr val="ff388c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Овал 6"/>
          <p:cNvGrpSpPr/>
          <p:nvPr/>
        </p:nvGrpSpPr>
        <p:grpSpPr>
          <a:xfrm>
            <a:off x="189000" y="3833640"/>
            <a:ext cx="2116080" cy="2043360"/>
            <a:chOff x="189000" y="3833640"/>
            <a:chExt cx="2116080" cy="2043360"/>
          </a:xfrm>
        </p:grpSpPr>
        <p:pic>
          <p:nvPicPr>
            <p:cNvPr id="250" name="Овал 6" descr=""/>
            <p:cNvPicPr/>
            <p:nvPr/>
          </p:nvPicPr>
          <p:blipFill>
            <a:blip r:embed="rId2"/>
            <a:stretch/>
          </p:blipFill>
          <p:spPr>
            <a:xfrm>
              <a:off x="189000" y="3833640"/>
              <a:ext cx="2116080" cy="20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17680" y="4151160"/>
              <a:ext cx="146520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юджеты поселен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2" name="Прямая со стрелкой 9"/>
          <p:cNvCxnSpPr/>
          <p:nvPr/>
        </p:nvCxnSpPr>
        <p:spPr>
          <a:xfrm flipV="1">
            <a:off x="1981800" y="3750480"/>
            <a:ext cx="2804040" cy="400680"/>
          </a:xfrm>
          <a:prstGeom prst="straightConnector1">
            <a:avLst/>
          </a:prstGeom>
          <a:ln w="9360">
            <a:solidFill>
              <a:srgbClr val="d3236d"/>
            </a:solidFill>
            <a:miter/>
            <a:tailEnd len="med" type="arrow" w="med"/>
          </a:ln>
        </p:spPr>
      </p:cxnSp>
      <p:sp>
        <p:nvSpPr>
          <p:cNvPr id="253" name="TextBox 16"/>
          <p:cNvSpPr/>
          <p:nvPr/>
        </p:nvSpPr>
        <p:spPr>
          <a:xfrm rot="21120600">
            <a:off x="3344760" y="3525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 rot="442800">
            <a:off x="3377880" y="537696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2"/>
          <p:cNvSpPr/>
          <p:nvPr/>
        </p:nvSpPr>
        <p:spPr>
          <a:xfrm>
            <a:off x="6357960" y="3929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Овал 46"/>
          <p:cNvGrpSpPr/>
          <p:nvPr/>
        </p:nvGrpSpPr>
        <p:grpSpPr>
          <a:xfrm>
            <a:off x="4761000" y="3333600"/>
            <a:ext cx="901440" cy="830520"/>
            <a:chOff x="4761000" y="3333600"/>
            <a:chExt cx="901440" cy="830520"/>
          </a:xfrm>
        </p:grpSpPr>
        <p:pic>
          <p:nvPicPr>
            <p:cNvPr id="257" name="Овал 46" descr=""/>
            <p:cNvPicPr/>
            <p:nvPr/>
          </p:nvPicPr>
          <p:blipFill>
            <a:blip r:embed="rId3"/>
            <a:stretch/>
          </p:blipFill>
          <p:spPr>
            <a:xfrm>
              <a:off x="4761000" y="3333600"/>
              <a:ext cx="9014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911840" y="3471840"/>
              <a:ext cx="606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mbr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8400960" cy="822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Бюджетная система Российской Федерации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«двойного счета» межбюджетных трансфертов)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61" name="Прямоугольник 3"/>
          <p:cNvGrpSpPr/>
          <p:nvPr/>
        </p:nvGrpSpPr>
        <p:grpSpPr>
          <a:xfrm>
            <a:off x="189000" y="1262160"/>
            <a:ext cx="2541600" cy="1401840"/>
            <a:chOff x="189000" y="1262160"/>
            <a:chExt cx="2541600" cy="1401840"/>
          </a:xfrm>
        </p:grpSpPr>
        <p:pic>
          <p:nvPicPr>
            <p:cNvPr id="262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89000" y="1262160"/>
              <a:ext cx="25416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14200" y="1285920"/>
              <a:ext cx="250056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юджетная система Российской Федерации или «бюджет расширенного правительства» (аналитическая категория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Прямоугольник 4"/>
          <p:cNvGrpSpPr/>
          <p:nvPr/>
        </p:nvGrpSpPr>
        <p:grpSpPr>
          <a:xfrm>
            <a:off x="3548160" y="1262160"/>
            <a:ext cx="2328840" cy="1328760"/>
            <a:chOff x="3548160" y="1262160"/>
            <a:chExt cx="2328840" cy="1328760"/>
          </a:xfrm>
        </p:grpSpPr>
        <p:pic>
          <p:nvPicPr>
            <p:cNvPr id="26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548160" y="1262160"/>
              <a:ext cx="23288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571920" y="1285920"/>
              <a:ext cx="22860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онсолидированный бюджет Российской Федер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Прямоугольник 5"/>
          <p:cNvGrpSpPr/>
          <p:nvPr/>
        </p:nvGrpSpPr>
        <p:grpSpPr>
          <a:xfrm>
            <a:off x="6620040" y="1262160"/>
            <a:ext cx="2401560" cy="1328760"/>
            <a:chOff x="6620040" y="1262160"/>
            <a:chExt cx="2401560" cy="1328760"/>
          </a:xfrm>
        </p:grpSpPr>
        <p:pic>
          <p:nvPicPr>
            <p:cNvPr id="268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620040" y="1262160"/>
              <a:ext cx="240156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643800" y="1285920"/>
              <a:ext cx="23572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юджеты государственных внебюджетных фонд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Овал 6"/>
          <p:cNvSpPr/>
          <p:nvPr/>
        </p:nvSpPr>
        <p:spPr>
          <a:xfrm>
            <a:off x="2786040" y="1643040"/>
            <a:ext cx="714240" cy="714240"/>
          </a:xfrm>
          <a:prstGeom prst="ellipse">
            <a:avLst/>
          </a:prstGeom>
          <a:noFill/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7"/>
          <p:cNvSpPr/>
          <p:nvPr/>
        </p:nvSpPr>
        <p:spPr>
          <a:xfrm>
            <a:off x="5929200" y="1643040"/>
            <a:ext cx="642960" cy="642960"/>
          </a:xfrm>
          <a:prstGeom prst="ellipse">
            <a:avLst/>
          </a:prstGeom>
          <a:noFill/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2"/>
          <p:cNvSpPr/>
          <p:nvPr/>
        </p:nvSpPr>
        <p:spPr>
          <a:xfrm>
            <a:off x="6000840" y="15001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2928960" y="15717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Прямоугольник 14"/>
          <p:cNvGrpSpPr/>
          <p:nvPr/>
        </p:nvGrpSpPr>
        <p:grpSpPr>
          <a:xfrm>
            <a:off x="189000" y="3187800"/>
            <a:ext cx="2541600" cy="903240"/>
            <a:chOff x="189000" y="3187800"/>
            <a:chExt cx="2541600" cy="903240"/>
          </a:xfrm>
        </p:grpSpPr>
        <p:pic>
          <p:nvPicPr>
            <p:cNvPr id="275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189000" y="3187800"/>
              <a:ext cx="25416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14200" y="3214800"/>
              <a:ext cx="25005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едеральный бюдж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Прямоугольник 15"/>
          <p:cNvGrpSpPr/>
          <p:nvPr/>
        </p:nvGrpSpPr>
        <p:grpSpPr>
          <a:xfrm>
            <a:off x="3548160" y="3121200"/>
            <a:ext cx="2328840" cy="969840"/>
            <a:chOff x="3548160" y="3121200"/>
            <a:chExt cx="2328840" cy="969840"/>
          </a:xfrm>
        </p:grpSpPr>
        <p:pic>
          <p:nvPicPr>
            <p:cNvPr id="278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3548160" y="3121200"/>
              <a:ext cx="23288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3571920" y="3143160"/>
              <a:ext cx="2286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онсолидированные бюджеты субъектов Российской Феде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Прямоугольник 16"/>
          <p:cNvGrpSpPr/>
          <p:nvPr/>
        </p:nvGrpSpPr>
        <p:grpSpPr>
          <a:xfrm>
            <a:off x="6119640" y="2975040"/>
            <a:ext cx="1470240" cy="1255680"/>
            <a:chOff x="6119640" y="2975040"/>
            <a:chExt cx="1470240" cy="1255680"/>
          </a:xfrm>
        </p:grpSpPr>
        <p:pic>
          <p:nvPicPr>
            <p:cNvPr id="281" name="Прямоугольник 16" descr=""/>
            <p:cNvPicPr/>
            <p:nvPr/>
          </p:nvPicPr>
          <p:blipFill>
            <a:blip r:embed="rId6"/>
            <a:stretch/>
          </p:blipFill>
          <p:spPr>
            <a:xfrm>
              <a:off x="6119640" y="2975040"/>
              <a:ext cx="1470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143760" y="3000240"/>
              <a:ext cx="142848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сударственные внебюджетные фонды Российской Феде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Прямоугольник 17"/>
          <p:cNvGrpSpPr/>
          <p:nvPr/>
        </p:nvGrpSpPr>
        <p:grpSpPr>
          <a:xfrm>
            <a:off x="7620120" y="2975040"/>
            <a:ext cx="1401480" cy="1255680"/>
            <a:chOff x="7620120" y="2975040"/>
            <a:chExt cx="1401480" cy="1255680"/>
          </a:xfrm>
        </p:grpSpPr>
        <p:pic>
          <p:nvPicPr>
            <p:cNvPr id="284" name="Прямоугольник 17" descr=""/>
            <p:cNvPicPr/>
            <p:nvPr/>
          </p:nvPicPr>
          <p:blipFill>
            <a:blip r:embed="rId7"/>
            <a:stretch/>
          </p:blipFill>
          <p:spPr>
            <a:xfrm>
              <a:off x="7620120" y="2975040"/>
              <a:ext cx="14014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643880" y="3000240"/>
              <a:ext cx="13572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mbria"/>
                </a:rPr>
                <a:t>Территориальные фонды обязательного медицинского страх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трелка вверх 48"/>
          <p:cNvGrpSpPr/>
          <p:nvPr/>
        </p:nvGrpSpPr>
        <p:grpSpPr>
          <a:xfrm>
            <a:off x="4694400" y="2554200"/>
            <a:ext cx="249120" cy="603360"/>
            <a:chOff x="4694400" y="2554200"/>
            <a:chExt cx="249120" cy="603360"/>
          </a:xfrm>
        </p:grpSpPr>
        <p:pic>
          <p:nvPicPr>
            <p:cNvPr id="287" name="Стрелка вверх 48" descr=""/>
            <p:cNvPicPr/>
            <p:nvPr/>
          </p:nvPicPr>
          <p:blipFill>
            <a:blip r:embed="rId8"/>
            <a:stretch/>
          </p:blipFill>
          <p:spPr>
            <a:xfrm>
              <a:off x="4694400" y="2554200"/>
              <a:ext cx="2491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68920" y="2625840"/>
              <a:ext cx="1062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Стрелка вверх 49"/>
          <p:cNvGrpSpPr/>
          <p:nvPr/>
        </p:nvGrpSpPr>
        <p:grpSpPr>
          <a:xfrm>
            <a:off x="6765840" y="2554200"/>
            <a:ext cx="317520" cy="457200"/>
            <a:chOff x="6765840" y="2554200"/>
            <a:chExt cx="317520" cy="457200"/>
          </a:xfrm>
        </p:grpSpPr>
        <p:pic>
          <p:nvPicPr>
            <p:cNvPr id="290" name="Стрелка вверх 49" descr=""/>
            <p:cNvPicPr/>
            <p:nvPr/>
          </p:nvPicPr>
          <p:blipFill>
            <a:blip r:embed="rId9"/>
            <a:stretch/>
          </p:blipFill>
          <p:spPr>
            <a:xfrm>
              <a:off x="6765840" y="2554200"/>
              <a:ext cx="3175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858000" y="2643120"/>
              <a:ext cx="142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Стрелка вверх 51"/>
          <p:cNvGrpSpPr/>
          <p:nvPr/>
        </p:nvGrpSpPr>
        <p:grpSpPr>
          <a:xfrm>
            <a:off x="8199360" y="2554200"/>
            <a:ext cx="316080" cy="457200"/>
            <a:chOff x="8199360" y="2554200"/>
            <a:chExt cx="316080" cy="457200"/>
          </a:xfrm>
        </p:grpSpPr>
        <p:pic>
          <p:nvPicPr>
            <p:cNvPr id="293" name="Стрелка вверх 51" descr=""/>
            <p:cNvPicPr/>
            <p:nvPr/>
          </p:nvPicPr>
          <p:blipFill>
            <a:blip r:embed="rId10"/>
            <a:stretch/>
          </p:blipFill>
          <p:spPr>
            <a:xfrm>
              <a:off x="8199360" y="2554200"/>
              <a:ext cx="3160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286840" y="2643120"/>
              <a:ext cx="142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Стрелка углом вверх 61"/>
          <p:cNvGrpSpPr/>
          <p:nvPr/>
        </p:nvGrpSpPr>
        <p:grpSpPr>
          <a:xfrm>
            <a:off x="1335240" y="2541600"/>
            <a:ext cx="3193920" cy="549360"/>
            <a:chOff x="1335240" y="2541600"/>
            <a:chExt cx="3193920" cy="549360"/>
          </a:xfrm>
        </p:grpSpPr>
        <p:pic>
          <p:nvPicPr>
            <p:cNvPr id="296" name="Стрелка углом вверх 61" descr=""/>
            <p:cNvPicPr/>
            <p:nvPr/>
          </p:nvPicPr>
          <p:blipFill>
            <a:blip r:embed="rId11"/>
            <a:stretch/>
          </p:blipFill>
          <p:spPr>
            <a:xfrm>
              <a:off x="1335240" y="2541600"/>
              <a:ext cx="3193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357200" y="2946240"/>
              <a:ext cx="308160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Блок-схема: процесс 62"/>
          <p:cNvGrpSpPr/>
          <p:nvPr/>
        </p:nvGrpSpPr>
        <p:grpSpPr>
          <a:xfrm>
            <a:off x="1335240" y="2975040"/>
            <a:ext cx="182520" cy="328680"/>
            <a:chOff x="1335240" y="2975040"/>
            <a:chExt cx="182520" cy="328680"/>
          </a:xfrm>
        </p:grpSpPr>
        <p:pic>
          <p:nvPicPr>
            <p:cNvPr id="299" name="Блок-схема: процесс 62" descr=""/>
            <p:cNvPicPr/>
            <p:nvPr/>
          </p:nvPicPr>
          <p:blipFill>
            <a:blip r:embed="rId12"/>
            <a:stretch/>
          </p:blipFill>
          <p:spPr>
            <a:xfrm>
              <a:off x="1335240" y="2975040"/>
              <a:ext cx="18252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357200" y="3000240"/>
              <a:ext cx="142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Блок-схема: процесс 63"/>
          <p:cNvGrpSpPr/>
          <p:nvPr/>
        </p:nvGrpSpPr>
        <p:grpSpPr>
          <a:xfrm>
            <a:off x="195120" y="4479840"/>
            <a:ext cx="2529000" cy="1030320"/>
            <a:chOff x="195120" y="4479840"/>
            <a:chExt cx="2529000" cy="1030320"/>
          </a:xfrm>
        </p:grpSpPr>
        <p:pic>
          <p:nvPicPr>
            <p:cNvPr id="302" name="Блок-схема: процесс 63" descr=""/>
            <p:cNvPicPr/>
            <p:nvPr/>
          </p:nvPicPr>
          <p:blipFill>
            <a:blip r:embed="rId13"/>
            <a:stretch/>
          </p:blipFill>
          <p:spPr>
            <a:xfrm>
              <a:off x="195120" y="4479840"/>
              <a:ext cx="2529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214200" y="4500720"/>
              <a:ext cx="25005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Бюджеты субъектов Российской Феде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mbria"/>
                </a:rPr>
                <a:t>(региональные бюджеты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Прямоугольник 65"/>
          <p:cNvGrpSpPr/>
          <p:nvPr/>
        </p:nvGrpSpPr>
        <p:grpSpPr>
          <a:xfrm>
            <a:off x="3554280" y="4479840"/>
            <a:ext cx="2316240" cy="1177920"/>
            <a:chOff x="3554280" y="4479840"/>
            <a:chExt cx="2316240" cy="1177920"/>
          </a:xfrm>
        </p:grpSpPr>
        <p:pic>
          <p:nvPicPr>
            <p:cNvPr id="305" name="Прямоугольник 65" descr=""/>
            <p:cNvPicPr/>
            <p:nvPr/>
          </p:nvPicPr>
          <p:blipFill>
            <a:blip r:embed="rId14"/>
            <a:stretch/>
          </p:blipFill>
          <p:spPr>
            <a:xfrm>
              <a:off x="3554280" y="4479840"/>
              <a:ext cx="231624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571920" y="4500720"/>
              <a:ext cx="2286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Cambria"/>
                </a:rPr>
                <a:t>Консолидированные бюджеты муниципальных район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Блок-схема: процесс 66"/>
          <p:cNvGrpSpPr/>
          <p:nvPr/>
        </p:nvGrpSpPr>
        <p:grpSpPr>
          <a:xfrm>
            <a:off x="6692760" y="4475160"/>
            <a:ext cx="2328840" cy="974880"/>
            <a:chOff x="6692760" y="4475160"/>
            <a:chExt cx="2328840" cy="974880"/>
          </a:xfrm>
        </p:grpSpPr>
        <p:pic>
          <p:nvPicPr>
            <p:cNvPr id="308" name="Блок-схема: процесс 66" descr=""/>
            <p:cNvPicPr/>
            <p:nvPr/>
          </p:nvPicPr>
          <p:blipFill>
            <a:blip r:embed="rId15"/>
            <a:stretch/>
          </p:blipFill>
          <p:spPr>
            <a:xfrm>
              <a:off x="6692760" y="4475160"/>
              <a:ext cx="232884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715080" y="4500720"/>
              <a:ext cx="228600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mbria"/>
                </a:rPr>
                <a:t>Бюджеты городских округ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Прямоугольник 67"/>
          <p:cNvGrpSpPr/>
          <p:nvPr/>
        </p:nvGrpSpPr>
        <p:grpSpPr>
          <a:xfrm>
            <a:off x="768240" y="6053040"/>
            <a:ext cx="2243160" cy="603360"/>
            <a:chOff x="768240" y="6053040"/>
            <a:chExt cx="2243160" cy="603360"/>
          </a:xfrm>
        </p:grpSpPr>
        <p:pic>
          <p:nvPicPr>
            <p:cNvPr id="311" name="Прямоугольник 67" descr=""/>
            <p:cNvPicPr/>
            <p:nvPr/>
          </p:nvPicPr>
          <p:blipFill>
            <a:blip r:embed="rId16"/>
            <a:stretch/>
          </p:blipFill>
          <p:spPr>
            <a:xfrm>
              <a:off x="768240" y="6053040"/>
              <a:ext cx="22431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85880" y="6072120"/>
              <a:ext cx="2214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Бюджеты район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Прямоугольник 68"/>
          <p:cNvGrpSpPr/>
          <p:nvPr/>
        </p:nvGrpSpPr>
        <p:grpSpPr>
          <a:xfrm>
            <a:off x="6413400" y="5979960"/>
            <a:ext cx="2382840" cy="603360"/>
            <a:chOff x="6413400" y="5979960"/>
            <a:chExt cx="2382840" cy="603360"/>
          </a:xfrm>
        </p:grpSpPr>
        <p:pic>
          <p:nvPicPr>
            <p:cNvPr id="314" name="Прямоугольник 68" descr=""/>
            <p:cNvPicPr/>
            <p:nvPr/>
          </p:nvPicPr>
          <p:blipFill>
            <a:blip r:embed="rId17"/>
            <a:stretch/>
          </p:blipFill>
          <p:spPr>
            <a:xfrm>
              <a:off x="6413400" y="5979960"/>
              <a:ext cx="23828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429240" y="6000840"/>
              <a:ext cx="23576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Бюджеты посел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Стрелка вверх 69"/>
          <p:cNvGrpSpPr/>
          <p:nvPr/>
        </p:nvGrpSpPr>
        <p:grpSpPr>
          <a:xfrm>
            <a:off x="4767120" y="4054320"/>
            <a:ext cx="243000" cy="457200"/>
            <a:chOff x="4767120" y="4054320"/>
            <a:chExt cx="243000" cy="457200"/>
          </a:xfrm>
        </p:grpSpPr>
        <p:pic>
          <p:nvPicPr>
            <p:cNvPr id="317" name="Стрелка вверх 69" descr=""/>
            <p:cNvPicPr/>
            <p:nvPr/>
          </p:nvPicPr>
          <p:blipFill>
            <a:blip r:embed="rId18"/>
            <a:stretch/>
          </p:blipFill>
          <p:spPr>
            <a:xfrm>
              <a:off x="4767120" y="4054320"/>
              <a:ext cx="243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840200" y="4125960"/>
              <a:ext cx="1065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Стрелка углом вверх 70"/>
          <p:cNvGrpSpPr/>
          <p:nvPr/>
        </p:nvGrpSpPr>
        <p:grpSpPr>
          <a:xfrm>
            <a:off x="1262160" y="4041720"/>
            <a:ext cx="3193920" cy="335160"/>
            <a:chOff x="1262160" y="4041720"/>
            <a:chExt cx="3193920" cy="335160"/>
          </a:xfrm>
        </p:grpSpPr>
        <p:pic>
          <p:nvPicPr>
            <p:cNvPr id="320" name="Стрелка углом вверх 70" descr=""/>
            <p:cNvPicPr/>
            <p:nvPr/>
          </p:nvPicPr>
          <p:blipFill>
            <a:blip r:embed="rId19"/>
            <a:stretch/>
          </p:blipFill>
          <p:spPr>
            <a:xfrm>
              <a:off x="1262160" y="4041720"/>
              <a:ext cx="319392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285920" y="4286160"/>
              <a:ext cx="3106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Блок-схема: процесс 77"/>
          <p:cNvGrpSpPr/>
          <p:nvPr/>
        </p:nvGrpSpPr>
        <p:grpSpPr>
          <a:xfrm>
            <a:off x="1262160" y="4334040"/>
            <a:ext cx="115920" cy="182520"/>
            <a:chOff x="1262160" y="4334040"/>
            <a:chExt cx="115920" cy="182520"/>
          </a:xfrm>
        </p:grpSpPr>
        <p:pic>
          <p:nvPicPr>
            <p:cNvPr id="323" name="Блок-схема: процесс 77" descr=""/>
            <p:cNvPicPr/>
            <p:nvPr/>
          </p:nvPicPr>
          <p:blipFill>
            <a:blip r:embed="rId20"/>
            <a:stretch/>
          </p:blipFill>
          <p:spPr>
            <a:xfrm>
              <a:off x="1262160" y="4334040"/>
              <a:ext cx="11592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285920" y="4357800"/>
              <a:ext cx="71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Блок-схема: процесс 78"/>
          <p:cNvGrpSpPr/>
          <p:nvPr/>
        </p:nvGrpSpPr>
        <p:grpSpPr>
          <a:xfrm>
            <a:off x="7480440" y="4267080"/>
            <a:ext cx="102960" cy="244440"/>
            <a:chOff x="7480440" y="4267080"/>
            <a:chExt cx="102960" cy="244440"/>
          </a:xfrm>
        </p:grpSpPr>
        <p:pic>
          <p:nvPicPr>
            <p:cNvPr id="326" name="Блок-схема: процесс 78" descr=""/>
            <p:cNvPicPr/>
            <p:nvPr/>
          </p:nvPicPr>
          <p:blipFill>
            <a:blip r:embed="rId21"/>
            <a:stretch/>
          </p:blipFill>
          <p:spPr>
            <a:xfrm>
              <a:off x="7480440" y="4267080"/>
              <a:ext cx="10296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7500960" y="4286160"/>
              <a:ext cx="712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Блок-схема: процесс 79"/>
          <p:cNvGrpSpPr/>
          <p:nvPr/>
        </p:nvGrpSpPr>
        <p:grpSpPr>
          <a:xfrm>
            <a:off x="5267160" y="4267080"/>
            <a:ext cx="2243160" cy="103320"/>
            <a:chOff x="5267160" y="4267080"/>
            <a:chExt cx="2243160" cy="103320"/>
          </a:xfrm>
        </p:grpSpPr>
        <p:pic>
          <p:nvPicPr>
            <p:cNvPr id="329" name="Блок-схема: процесс 79" descr=""/>
            <p:cNvPicPr/>
            <p:nvPr/>
          </p:nvPicPr>
          <p:blipFill>
            <a:blip r:embed="rId22"/>
            <a:stretch/>
          </p:blipFill>
          <p:spPr>
            <a:xfrm>
              <a:off x="5267160" y="4267080"/>
              <a:ext cx="224316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286240" y="4286160"/>
              <a:ext cx="22147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Стрелка вверх 80"/>
          <p:cNvGrpSpPr/>
          <p:nvPr/>
        </p:nvGrpSpPr>
        <p:grpSpPr>
          <a:xfrm>
            <a:off x="5194440" y="4054320"/>
            <a:ext cx="176040" cy="316080"/>
            <a:chOff x="5194440" y="4054320"/>
            <a:chExt cx="176040" cy="316080"/>
          </a:xfrm>
        </p:grpSpPr>
        <p:pic>
          <p:nvPicPr>
            <p:cNvPr id="332" name="Стрелка вверх 80" descr=""/>
            <p:cNvPicPr/>
            <p:nvPr/>
          </p:nvPicPr>
          <p:blipFill>
            <a:blip r:embed="rId23"/>
            <a:stretch/>
          </p:blipFill>
          <p:spPr>
            <a:xfrm>
              <a:off x="5194440" y="4054320"/>
              <a:ext cx="17604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251320" y="4108320"/>
              <a:ext cx="71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Стрелка углом вверх 82"/>
          <p:cNvGrpSpPr/>
          <p:nvPr/>
        </p:nvGrpSpPr>
        <p:grpSpPr>
          <a:xfrm>
            <a:off x="1981080" y="5626080"/>
            <a:ext cx="2389320" cy="317520"/>
            <a:chOff x="1981080" y="5626080"/>
            <a:chExt cx="2389320" cy="317520"/>
          </a:xfrm>
        </p:grpSpPr>
        <p:pic>
          <p:nvPicPr>
            <p:cNvPr id="335" name="Стрелка углом вверх 82" descr=""/>
            <p:cNvPicPr/>
            <p:nvPr/>
          </p:nvPicPr>
          <p:blipFill>
            <a:blip r:embed="rId24"/>
            <a:stretch/>
          </p:blipFill>
          <p:spPr>
            <a:xfrm>
              <a:off x="1981080" y="5626080"/>
              <a:ext cx="23893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000160" y="5857920"/>
              <a:ext cx="23209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Блок-схема: процесс 83"/>
          <p:cNvGrpSpPr/>
          <p:nvPr/>
        </p:nvGrpSpPr>
        <p:grpSpPr>
          <a:xfrm>
            <a:off x="1908000" y="5840280"/>
            <a:ext cx="103320" cy="243000"/>
            <a:chOff x="1908000" y="5840280"/>
            <a:chExt cx="103320" cy="243000"/>
          </a:xfrm>
        </p:grpSpPr>
        <p:pic>
          <p:nvPicPr>
            <p:cNvPr id="338" name="Блок-схема: процесс 83" descr=""/>
            <p:cNvPicPr/>
            <p:nvPr/>
          </p:nvPicPr>
          <p:blipFill>
            <a:blip r:embed="rId25"/>
            <a:stretch/>
          </p:blipFill>
          <p:spPr>
            <a:xfrm>
              <a:off x="1908000" y="5840280"/>
              <a:ext cx="1033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1928880" y="5857920"/>
              <a:ext cx="71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Блок-схема: процесс 84"/>
          <p:cNvGrpSpPr/>
          <p:nvPr/>
        </p:nvGrpSpPr>
        <p:grpSpPr>
          <a:xfrm>
            <a:off x="5126040" y="5840280"/>
            <a:ext cx="2603520" cy="103320"/>
            <a:chOff x="5126040" y="5840280"/>
            <a:chExt cx="2603520" cy="103320"/>
          </a:xfrm>
        </p:grpSpPr>
        <p:pic>
          <p:nvPicPr>
            <p:cNvPr id="341" name="Блок-схема: процесс 84" descr=""/>
            <p:cNvPicPr/>
            <p:nvPr/>
          </p:nvPicPr>
          <p:blipFill>
            <a:blip r:embed="rId26"/>
            <a:stretch/>
          </p:blipFill>
          <p:spPr>
            <a:xfrm>
              <a:off x="5126040" y="5840280"/>
              <a:ext cx="260352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143680" y="5857920"/>
              <a:ext cx="25714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Блок-схема: процесс 85"/>
          <p:cNvGrpSpPr/>
          <p:nvPr/>
        </p:nvGrpSpPr>
        <p:grpSpPr>
          <a:xfrm>
            <a:off x="7626240" y="5840280"/>
            <a:ext cx="103320" cy="169920"/>
            <a:chOff x="7626240" y="5840280"/>
            <a:chExt cx="103320" cy="169920"/>
          </a:xfrm>
        </p:grpSpPr>
        <p:pic>
          <p:nvPicPr>
            <p:cNvPr id="344" name="Блок-схема: процесс 85" descr=""/>
            <p:cNvPicPr/>
            <p:nvPr/>
          </p:nvPicPr>
          <p:blipFill>
            <a:blip r:embed="rId27"/>
            <a:stretch/>
          </p:blipFill>
          <p:spPr>
            <a:xfrm>
              <a:off x="7626240" y="5840280"/>
              <a:ext cx="10332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7643880" y="5857920"/>
              <a:ext cx="71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Стрелка вверх 86"/>
          <p:cNvGrpSpPr/>
          <p:nvPr/>
        </p:nvGrpSpPr>
        <p:grpSpPr>
          <a:xfrm>
            <a:off x="5052960" y="5626080"/>
            <a:ext cx="171360" cy="317520"/>
            <a:chOff x="5052960" y="5626080"/>
            <a:chExt cx="171360" cy="317520"/>
          </a:xfrm>
        </p:grpSpPr>
        <p:pic>
          <p:nvPicPr>
            <p:cNvPr id="347" name="Стрелка вверх 86" descr=""/>
            <p:cNvPicPr/>
            <p:nvPr/>
          </p:nvPicPr>
          <p:blipFill>
            <a:blip r:embed="rId28"/>
            <a:stretch/>
          </p:blipFill>
          <p:spPr>
            <a:xfrm>
              <a:off x="5052960" y="5626080"/>
              <a:ext cx="17136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08400" y="5680080"/>
              <a:ext cx="716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На чем основано составление проекта бюджета сельского поселения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grpSp>
        <p:nvGrpSpPr>
          <p:cNvPr id="350" name="Прямоугольник с двумя скругленными соседними углами 3"/>
          <p:cNvGrpSpPr/>
          <p:nvPr/>
        </p:nvGrpSpPr>
        <p:grpSpPr>
          <a:xfrm>
            <a:off x="401760" y="1689120"/>
            <a:ext cx="8547120" cy="1114560"/>
            <a:chOff x="401760" y="1689120"/>
            <a:chExt cx="8547120" cy="1114560"/>
          </a:xfrm>
        </p:grpSpPr>
        <p:pic>
          <p:nvPicPr>
            <p:cNvPr id="351" name="Прямоугольник с двумя скругленными соседними углами 3" descr=""/>
            <p:cNvPicPr/>
            <p:nvPr/>
          </p:nvPicPr>
          <p:blipFill>
            <a:blip r:embed="rId1"/>
            <a:stretch/>
          </p:blipFill>
          <p:spPr>
            <a:xfrm>
              <a:off x="401760" y="1689120"/>
              <a:ext cx="854712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80960" y="1766880"/>
              <a:ext cx="839628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mbria"/>
                </a:rPr>
                <a:t>Составление проекта бюджета  сельского поселения основывается на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Скругленный прямоугольник 5"/>
          <p:cNvGrpSpPr/>
          <p:nvPr/>
        </p:nvGrpSpPr>
        <p:grpSpPr>
          <a:xfrm>
            <a:off x="401760" y="3402000"/>
            <a:ext cx="2762280" cy="3114720"/>
            <a:chOff x="401760" y="3402000"/>
            <a:chExt cx="2762280" cy="3114720"/>
          </a:xfrm>
        </p:grpSpPr>
        <p:pic>
          <p:nvPicPr>
            <p:cNvPr id="354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01760" y="3402000"/>
              <a:ext cx="276228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60520" y="3560760"/>
              <a:ext cx="245088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е социально – экономического развития Семисотского сельского посе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Скругленный прямоугольник 6"/>
          <p:cNvGrpSpPr/>
          <p:nvPr/>
        </p:nvGrpSpPr>
        <p:grpSpPr>
          <a:xfrm>
            <a:off x="3260880" y="3402000"/>
            <a:ext cx="2828880" cy="3048120"/>
            <a:chOff x="3260880" y="3402000"/>
            <a:chExt cx="2828880" cy="3048120"/>
          </a:xfrm>
        </p:grpSpPr>
        <p:pic>
          <p:nvPicPr>
            <p:cNvPr id="357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260880" y="3402000"/>
              <a:ext cx="28288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422520" y="3565440"/>
              <a:ext cx="2513160" cy="27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х направлениях налоговой и бюджетной полит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Скругленный прямоугольник 7"/>
          <p:cNvGrpSpPr/>
          <p:nvPr/>
        </p:nvGrpSpPr>
        <p:grpSpPr>
          <a:xfrm>
            <a:off x="6407280" y="3402000"/>
            <a:ext cx="2541600" cy="3114720"/>
            <a:chOff x="6407280" y="3402000"/>
            <a:chExt cx="2541600" cy="3114720"/>
          </a:xfrm>
        </p:grpSpPr>
        <p:pic>
          <p:nvPicPr>
            <p:cNvPr id="360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6407280" y="3402000"/>
              <a:ext cx="254160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551640" y="3551400"/>
              <a:ext cx="2255760" cy="28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униципальных программах Семисотского сельского посе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Скругленный прямоугольник 8"/>
          <p:cNvGrpSpPr/>
          <p:nvPr/>
        </p:nvGrpSpPr>
        <p:grpSpPr>
          <a:xfrm>
            <a:off x="401760" y="2835360"/>
            <a:ext cx="2762280" cy="541080"/>
            <a:chOff x="401760" y="2835360"/>
            <a:chExt cx="2762280" cy="541080"/>
          </a:xfrm>
        </p:grpSpPr>
        <p:pic>
          <p:nvPicPr>
            <p:cNvPr id="363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01760" y="2835360"/>
              <a:ext cx="276228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52520" y="2881440"/>
              <a:ext cx="26668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mbr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Скругленный прямоугольник 10"/>
          <p:cNvGrpSpPr/>
          <p:nvPr/>
        </p:nvGrpSpPr>
        <p:grpSpPr>
          <a:xfrm>
            <a:off x="3333600" y="2835360"/>
            <a:ext cx="2756160" cy="541080"/>
            <a:chOff x="3333600" y="2835360"/>
            <a:chExt cx="2756160" cy="541080"/>
          </a:xfrm>
        </p:grpSpPr>
        <p:pic>
          <p:nvPicPr>
            <p:cNvPr id="366" name="Скругленный прямоугольник 10" descr=""/>
            <p:cNvPicPr/>
            <p:nvPr/>
          </p:nvPicPr>
          <p:blipFill>
            <a:blip r:embed="rId6"/>
            <a:stretch/>
          </p:blipFill>
          <p:spPr>
            <a:xfrm>
              <a:off x="3333600" y="2835360"/>
              <a:ext cx="275616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381480" y="2881440"/>
              <a:ext cx="26668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mbr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Скругленный прямоугольник 11"/>
          <p:cNvGrpSpPr/>
          <p:nvPr/>
        </p:nvGrpSpPr>
        <p:grpSpPr>
          <a:xfrm>
            <a:off x="6261120" y="2835360"/>
            <a:ext cx="2687760" cy="468360"/>
            <a:chOff x="6261120" y="2835360"/>
            <a:chExt cx="2687760" cy="468360"/>
          </a:xfrm>
        </p:grpSpPr>
        <p:pic>
          <p:nvPicPr>
            <p:cNvPr id="369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6261120" y="2835360"/>
              <a:ext cx="26877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307200" y="2878200"/>
              <a:ext cx="26017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mbr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Бюджетный процесс – ежегодное формирование и исполнение бюджета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372" name="Содержимое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373" name="Стрелка вправо 7"/>
          <p:cNvSpPr/>
          <p:nvPr/>
        </p:nvSpPr>
        <p:spPr>
          <a:xfrm>
            <a:off x="3786120" y="185724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388c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трелка вправо 8"/>
          <p:cNvSpPr/>
          <p:nvPr/>
        </p:nvSpPr>
        <p:spPr>
          <a:xfrm>
            <a:off x="3786120" y="271476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388c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трелка вправо 9"/>
          <p:cNvSpPr/>
          <p:nvPr/>
        </p:nvSpPr>
        <p:spPr>
          <a:xfrm>
            <a:off x="3786120" y="46432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388c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трелка вправо 10"/>
          <p:cNvSpPr/>
          <p:nvPr/>
        </p:nvSpPr>
        <p:spPr>
          <a:xfrm>
            <a:off x="3786120" y="542916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388c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Доходы бюджета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безвозмездные и безвозвратные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я денежных средств в бюджет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79" name="Скругленный прямоугольник 4"/>
          <p:cNvGrpSpPr/>
          <p:nvPr/>
        </p:nvGrpSpPr>
        <p:grpSpPr>
          <a:xfrm>
            <a:off x="2401920" y="1762200"/>
            <a:ext cx="4614840" cy="828720"/>
            <a:chOff x="2401920" y="1762200"/>
            <a:chExt cx="4614840" cy="828720"/>
          </a:xfrm>
        </p:grpSpPr>
        <p:pic>
          <p:nvPicPr>
            <p:cNvPr id="38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401920" y="1762200"/>
              <a:ext cx="46148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467080" y="1824120"/>
              <a:ext cx="4495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Доходы бюдж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Скругленный прямоугольник 6"/>
          <p:cNvGrpSpPr/>
          <p:nvPr/>
        </p:nvGrpSpPr>
        <p:grpSpPr>
          <a:xfrm>
            <a:off x="262080" y="2975040"/>
            <a:ext cx="2755800" cy="615960"/>
            <a:chOff x="262080" y="2975040"/>
            <a:chExt cx="2755800" cy="615960"/>
          </a:xfrm>
        </p:grpSpPr>
        <p:pic>
          <p:nvPicPr>
            <p:cNvPr id="383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62080" y="2975040"/>
              <a:ext cx="27558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314280" y="3029040"/>
              <a:ext cx="2657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Налоговые до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Скругленный прямоугольник 7"/>
          <p:cNvGrpSpPr/>
          <p:nvPr/>
        </p:nvGrpSpPr>
        <p:grpSpPr>
          <a:xfrm>
            <a:off x="3333600" y="2975040"/>
            <a:ext cx="2829240" cy="615960"/>
            <a:chOff x="3333600" y="2975040"/>
            <a:chExt cx="2829240" cy="615960"/>
          </a:xfrm>
        </p:grpSpPr>
        <p:pic>
          <p:nvPicPr>
            <p:cNvPr id="386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333600" y="2975040"/>
              <a:ext cx="28292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3386160" y="3029040"/>
              <a:ext cx="27288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Неналоговые до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Блок-схема: альтернативный процесс 9"/>
          <p:cNvGrpSpPr/>
          <p:nvPr/>
        </p:nvGrpSpPr>
        <p:grpSpPr>
          <a:xfrm>
            <a:off x="6437160" y="2901960"/>
            <a:ext cx="2548080" cy="749160"/>
            <a:chOff x="6437160" y="2901960"/>
            <a:chExt cx="2548080" cy="749160"/>
          </a:xfrm>
        </p:grpSpPr>
        <p:pic>
          <p:nvPicPr>
            <p:cNvPr id="389" name="Блок-схема: альтернативный процесс 9" descr=""/>
            <p:cNvPicPr/>
            <p:nvPr/>
          </p:nvPicPr>
          <p:blipFill>
            <a:blip r:embed="rId4"/>
            <a:stretch/>
          </p:blipFill>
          <p:spPr>
            <a:xfrm>
              <a:off x="6437160" y="2901960"/>
              <a:ext cx="25480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6529320" y="3029040"/>
              <a:ext cx="23716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Безвозмездные поступ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Прямая соединительная линия 18"/>
          <p:cNvSpPr/>
          <p:nvPr/>
        </p:nvSpPr>
        <p:spPr>
          <a:xfrm>
            <a:off x="1571760" y="2786040"/>
            <a:ext cx="6143400" cy="144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25"/>
          <p:cNvSpPr/>
          <p:nvPr/>
        </p:nvSpPr>
        <p:spPr>
          <a:xfrm flipH="1">
            <a:off x="7714800" y="2786040"/>
            <a:ext cx="1800" cy="21420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30"/>
          <p:cNvSpPr/>
          <p:nvPr/>
        </p:nvSpPr>
        <p:spPr>
          <a:xfrm flipH="1">
            <a:off x="4642920" y="2571840"/>
            <a:ext cx="1800" cy="42840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32"/>
          <p:cNvSpPr/>
          <p:nvPr/>
        </p:nvSpPr>
        <p:spPr>
          <a:xfrm>
            <a:off x="1571760" y="2786040"/>
            <a:ext cx="0" cy="21420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Блок-схема: альтернативный процесс 34"/>
          <p:cNvGrpSpPr/>
          <p:nvPr/>
        </p:nvGrpSpPr>
        <p:grpSpPr>
          <a:xfrm>
            <a:off x="262080" y="3621240"/>
            <a:ext cx="2755800" cy="3114360"/>
            <a:chOff x="262080" y="3621240"/>
            <a:chExt cx="2755800" cy="3114360"/>
          </a:xfrm>
        </p:grpSpPr>
        <p:pic>
          <p:nvPicPr>
            <p:cNvPr id="396" name="Блок-схема: альтернативный процесс 34" descr=""/>
            <p:cNvPicPr/>
            <p:nvPr/>
          </p:nvPicPr>
          <p:blipFill>
            <a:blip r:embed="rId5"/>
            <a:stretch/>
          </p:blipFill>
          <p:spPr>
            <a:xfrm>
              <a:off x="262080" y="3621240"/>
              <a:ext cx="2755800" cy="31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17600" y="3774960"/>
              <a:ext cx="245088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упления от уплаты налогов, установленных Налоговым кодексом Российской Федерации, </a:t>
              </a:r>
              <a:r>
                <a:rPr b="0" lang="ru-RU" sz="16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например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66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налог на прибыль организаци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66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акциз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66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налог на доходы физических лиц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66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другие налог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Блок-схема: альтернативный процесс 35"/>
          <p:cNvGrpSpPr/>
          <p:nvPr/>
        </p:nvGrpSpPr>
        <p:grpSpPr>
          <a:xfrm>
            <a:off x="3402000" y="3621240"/>
            <a:ext cx="2760840" cy="3114360"/>
            <a:chOff x="3402000" y="3621240"/>
            <a:chExt cx="2760840" cy="3114360"/>
          </a:xfrm>
        </p:grpSpPr>
        <p:pic>
          <p:nvPicPr>
            <p:cNvPr id="399" name="Блок-схема: альтернативный процесс 35" descr=""/>
            <p:cNvPicPr/>
            <p:nvPr/>
          </p:nvPicPr>
          <p:blipFill>
            <a:blip r:embed="rId6"/>
            <a:stretch/>
          </p:blipFill>
          <p:spPr>
            <a:xfrm>
              <a:off x="3402000" y="3621240"/>
              <a:ext cx="2760840" cy="31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560760" y="3774960"/>
              <a:ext cx="245124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упления от уплаты других пошлин и сборов, установленных законодательством, а также штрафов за нарушение законодательства, </a:t>
              </a:r>
              <a:r>
                <a:rPr b="0" lang="ru-RU" sz="1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например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66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доходы от использования муниципального имущества и земл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66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штрафные санкци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66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другие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Блок-схема: альтернативный процесс 36"/>
          <p:cNvGrpSpPr/>
          <p:nvPr/>
        </p:nvGrpSpPr>
        <p:grpSpPr>
          <a:xfrm>
            <a:off x="6473880" y="3621240"/>
            <a:ext cx="2475000" cy="3114360"/>
            <a:chOff x="6473880" y="3621240"/>
            <a:chExt cx="2475000" cy="3114360"/>
          </a:xfrm>
        </p:grpSpPr>
        <p:pic>
          <p:nvPicPr>
            <p:cNvPr id="402" name="Блок-схема: альтернативный процесс 36" descr=""/>
            <p:cNvPicPr/>
            <p:nvPr/>
          </p:nvPicPr>
          <p:blipFill>
            <a:blip r:embed="rId7"/>
            <a:stretch/>
          </p:blipFill>
          <p:spPr>
            <a:xfrm>
              <a:off x="6473880" y="3621240"/>
              <a:ext cx="2475000" cy="31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620040" y="3762360"/>
              <a:ext cx="2190600" cy="28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упления от других бюджетов бюджетной системы (межбюджетные трансферты), организаций, граждан (кроме налоговых и неналоговых доходов)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Федеральные, региональные и местные налоги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Налог -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обязательный, индивидуально безвозмездный платеж, взимаемый с организаций и физических лиц в форме отчуждения принадлежащих им на праве собственности, хозяйственного ведения или оперативного управления денежных средств в целях финансового обеспечения деятельности государства и (или) муниципальных образований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НОВЛЕНЫ НАЛОГОВЫМ КОДЕКСОМ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06" name="Прямоугольник 4"/>
          <p:cNvGrpSpPr/>
          <p:nvPr/>
        </p:nvGrpSpPr>
        <p:grpSpPr>
          <a:xfrm>
            <a:off x="3187800" y="2401920"/>
            <a:ext cx="2901960" cy="474480"/>
            <a:chOff x="3187800" y="2401920"/>
            <a:chExt cx="2901960" cy="474480"/>
          </a:xfrm>
        </p:grpSpPr>
        <p:pic>
          <p:nvPicPr>
            <p:cNvPr id="40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187800" y="2401920"/>
              <a:ext cx="29019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214800" y="2428920"/>
              <a:ext cx="2857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Виды налог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Блок-схема: процесс 5"/>
          <p:cNvGrpSpPr/>
          <p:nvPr/>
        </p:nvGrpSpPr>
        <p:grpSpPr>
          <a:xfrm>
            <a:off x="401760" y="2835360"/>
            <a:ext cx="2043000" cy="395280"/>
            <a:chOff x="401760" y="2835360"/>
            <a:chExt cx="2043000" cy="395280"/>
          </a:xfrm>
        </p:grpSpPr>
        <p:pic>
          <p:nvPicPr>
            <p:cNvPr id="410" name="Блок-схема: процесс 5" descr=""/>
            <p:cNvPicPr/>
            <p:nvPr/>
          </p:nvPicPr>
          <p:blipFill>
            <a:blip r:embed="rId2"/>
            <a:stretch/>
          </p:blipFill>
          <p:spPr>
            <a:xfrm>
              <a:off x="401760" y="2835360"/>
              <a:ext cx="20430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28760" y="2857680"/>
              <a:ext cx="20001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mbria"/>
                </a:rPr>
                <a:t>Федер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Блок-схема: процесс 6"/>
          <p:cNvGrpSpPr/>
          <p:nvPr/>
        </p:nvGrpSpPr>
        <p:grpSpPr>
          <a:xfrm>
            <a:off x="3687840" y="3048120"/>
            <a:ext cx="2116080" cy="401400"/>
            <a:chOff x="3687840" y="3048120"/>
            <a:chExt cx="2116080" cy="401400"/>
          </a:xfrm>
        </p:grpSpPr>
        <p:pic>
          <p:nvPicPr>
            <p:cNvPr id="413" name="Блок-схема: процесс 6" descr=""/>
            <p:cNvPicPr/>
            <p:nvPr/>
          </p:nvPicPr>
          <p:blipFill>
            <a:blip r:embed="rId3"/>
            <a:stretch/>
          </p:blipFill>
          <p:spPr>
            <a:xfrm>
              <a:off x="3687840" y="3048120"/>
              <a:ext cx="211608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714840" y="3071880"/>
              <a:ext cx="20714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mbria"/>
                </a:rPr>
                <a:t>Регион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Блок-схема: процесс 7"/>
          <p:cNvGrpSpPr/>
          <p:nvPr/>
        </p:nvGrpSpPr>
        <p:grpSpPr>
          <a:xfrm>
            <a:off x="6834240" y="2835360"/>
            <a:ext cx="2114640" cy="395280"/>
            <a:chOff x="6834240" y="2835360"/>
            <a:chExt cx="2114640" cy="395280"/>
          </a:xfrm>
        </p:grpSpPr>
        <p:pic>
          <p:nvPicPr>
            <p:cNvPr id="416" name="Блок-схема: процесс 7" descr=""/>
            <p:cNvPicPr/>
            <p:nvPr/>
          </p:nvPicPr>
          <p:blipFill>
            <a:blip r:embed="rId4"/>
            <a:stretch/>
          </p:blipFill>
          <p:spPr>
            <a:xfrm>
              <a:off x="6834240" y="2835360"/>
              <a:ext cx="21146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6858000" y="2857680"/>
              <a:ext cx="2071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Мес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8" name="Прямая со стрелкой 10"/>
          <p:cNvCxnSpPr/>
          <p:nvPr/>
        </p:nvCxnSpPr>
        <p:spPr>
          <a:xfrm flipH="1">
            <a:off x="2428200" y="2637360"/>
            <a:ext cx="786600" cy="2199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419" name="Прямая со стрелкой 12"/>
          <p:cNvCxnSpPr/>
          <p:nvPr/>
        </p:nvCxnSpPr>
        <p:spPr>
          <a:xfrm flipH="1">
            <a:off x="4714560" y="2857320"/>
            <a:ext cx="2160" cy="214920"/>
          </a:xfrm>
          <a:prstGeom prst="straightConnector1">
            <a:avLst/>
          </a:prstGeom>
          <a:ln w="9360">
            <a:solidFill>
              <a:srgbClr val="d3236d"/>
            </a:solidFill>
            <a:miter/>
            <a:tailEnd len="med" type="arrow" w="med"/>
          </a:ln>
        </p:spPr>
      </p:cxnSp>
      <p:cxnSp>
        <p:nvCxnSpPr>
          <p:cNvPr id="420" name="Прямая со стрелкой 14"/>
          <p:cNvCxnSpPr/>
          <p:nvPr/>
        </p:nvCxnSpPr>
        <p:spPr>
          <a:xfrm>
            <a:off x="6071760" y="2643120"/>
            <a:ext cx="786600" cy="215280"/>
          </a:xfrm>
          <a:prstGeom prst="straightConnector1">
            <a:avLst/>
          </a:prstGeom>
          <a:ln cap="sq" w="9360">
            <a:solidFill>
              <a:srgbClr val="002060">
                <a:alpha val="81000"/>
              </a:srgbClr>
            </a:solidFill>
            <a:miter/>
            <a:tailEnd len="lg" type="arrow" w="lg"/>
          </a:ln>
        </p:spPr>
      </p:cxnSp>
      <p:sp>
        <p:nvSpPr>
          <p:cNvPr id="421" name="Скругленный прямоугольник 25"/>
          <p:cNvSpPr/>
          <p:nvPr/>
        </p:nvSpPr>
        <p:spPr>
          <a:xfrm>
            <a:off x="214200" y="4000680"/>
            <a:ext cx="2857680" cy="27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и обязательные к уплате на всей территории Российской Федер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например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Налог на прибыль организ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Налог на доходы физических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Акци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Блок-схема: альтернативный процесс 26"/>
          <p:cNvSpPr/>
          <p:nvPr/>
        </p:nvSpPr>
        <p:spPr>
          <a:xfrm>
            <a:off x="3286080" y="4000680"/>
            <a:ext cx="2786040" cy="2714400"/>
          </a:xfrm>
          <a:prstGeom prst="flowChartAlternateProcess">
            <a:avLst/>
          </a:prstGeom>
          <a:solidFill>
            <a:srgbClr val="ff2bd8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и законами субъектов Российской Федерации и обязательны к уплате на соответствующих территориях субъектов РФ , 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Налог на имущество организ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Блок-схема: альтернативный процесс 27"/>
          <p:cNvSpPr/>
          <p:nvPr/>
        </p:nvSpPr>
        <p:spPr>
          <a:xfrm>
            <a:off x="6286680" y="3860640"/>
            <a:ext cx="2714400" cy="2881440"/>
          </a:xfrm>
          <a:prstGeom prst="flowChartAlternateProcess">
            <a:avLst/>
          </a:prstGeom>
          <a:solidFill>
            <a:srgbClr val="e0e0e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и нормативными актами представительных органов муниципальных образований и обязательны к уплате на территориях соответствующих муниципальных образований, наприме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Земельный нало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Налог на имущество физических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Арендная плата за зем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низ 28"/>
          <p:cNvSpPr/>
          <p:nvPr/>
        </p:nvSpPr>
        <p:spPr>
          <a:xfrm>
            <a:off x="1285920" y="3714840"/>
            <a:ext cx="64296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29"/>
          <p:cNvSpPr/>
          <p:nvPr/>
        </p:nvSpPr>
        <p:spPr>
          <a:xfrm>
            <a:off x="4357800" y="3714840"/>
            <a:ext cx="57132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трелка вниз 30"/>
          <p:cNvSpPr/>
          <p:nvPr/>
        </p:nvSpPr>
        <p:spPr>
          <a:xfrm>
            <a:off x="7286760" y="3714840"/>
            <a:ext cx="4284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1:05:07Z</dcterms:created>
  <dc:creator>Фин</dc:creator>
  <dc:description/>
  <dc:language>en-US</dc:language>
  <cp:lastModifiedBy>Admin</cp:lastModifiedBy>
  <cp:lastPrinted>2016-11-10T14:42:09Z</cp:lastPrinted>
  <dcterms:modified xsi:type="dcterms:W3CDTF">2023-05-10T05:57:16Z</dcterms:modified>
  <cp:revision>518</cp:revision>
  <dc:subject/>
  <dc:title>БЮДЖЕТ ДЛЯ ГРАЖДАН</dc:title>
</cp:coreProperties>
</file>